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93B-64EA-43D9-9493-E8060D5A4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AF0D-2655-4622-8E26-BC0FA56A2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7ED-619B-4E76-941C-E2410697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9AB-0668-4335-9510-C2E2259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BDF-751A-4003-AA4A-B5535722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5D2-400A-48D2-8FD4-3B561C1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405-83D3-4C51-88EA-CC852A14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2E0-4F87-4581-9568-C4FB588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FCC-A792-4927-A31C-DACF8F2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421-D332-4653-95B9-307082D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480-8ADC-4062-86DF-3EB74C61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BED-7FF5-4912-8ABB-01318B0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E1F-D5AE-4791-A05C-807E58C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07A-A0C0-47DB-8AA2-68FA1C8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D89D-68BE-4B3A-9186-B9AF8E437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cro Ds in the Macro ADDIE Instructional Design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19320" y="11430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our Visual Design, Yo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4"/>
          <p:cNvSpPr/>
          <p:nvPr/>
        </p:nvSpPr>
        <p:spPr>
          <a:xfrm>
            <a:off x="9906120" y="190512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 5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191448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286000" y="19051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PRINCIPLE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lec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8"/>
          <p:cNvCxnSpPr/>
          <p:nvPr/>
        </p:nvCxnSpPr>
        <p:spPr>
          <a:xfrm>
            <a:off x="1447920" y="2362320"/>
            <a:ext cx="91512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4" name="Picture 2" descr="C:\Users\Ausburn\AppData\Local\Microsoft\Windows\Temporary Internet Files\Content.IE5\7JBLM7VS\MCj01975640000[1].wmf"/>
          <p:cNvPicPr/>
          <p:nvPr/>
        </p:nvPicPr>
        <p:blipFill>
          <a:blip r:embed="rId2"/>
          <a:stretch/>
        </p:blipFill>
        <p:spPr>
          <a:xfrm>
            <a:off x="3809880" y="1905120"/>
            <a:ext cx="236232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3886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Ausburn\AppData\Local\Microsoft\Windows\Temporary Internet Files\Content.IE5\7JBLM7VS\MCj03340340000[1].wmf"/>
          <p:cNvPicPr/>
          <p:nvPr/>
        </p:nvPicPr>
        <p:blipFill>
          <a:blip r:embed="rId3"/>
          <a:stretch/>
        </p:blipFill>
        <p:spPr>
          <a:xfrm>
            <a:off x="2514600" y="3581280"/>
            <a:ext cx="1438200" cy="140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Ausburn\AppData\Local\Microsoft\Windows\Temporary Internet Files\Content.IE5\QB55KCEA\MCj04398280000[1].png"/>
          <p:cNvPicPr/>
          <p:nvPr/>
        </p:nvPicPr>
        <p:blipFill>
          <a:blip r:embed="rId4"/>
          <a:stretch/>
        </p:blipFill>
        <p:spPr>
          <a:xfrm>
            <a:off x="502920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Ausburn\AppData\Local\Microsoft\Windows\Temporary Internet Files\Content.IE5\QB55KCEA\MPj03142530000[1].jpg"/>
          <p:cNvPicPr/>
          <p:nvPr/>
        </p:nvPicPr>
        <p:blipFill>
          <a:blip r:embed="rId5"/>
          <a:stretch/>
        </p:blipFill>
        <p:spPr>
          <a:xfrm>
            <a:off x="411480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114300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457200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4267080" y="3505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s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ign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eti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xim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6095880" y="51814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own Arrow 24"/>
          <p:cNvSpPr/>
          <p:nvPr/>
        </p:nvSpPr>
        <p:spPr>
          <a:xfrm>
            <a:off x="4800600" y="144792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own Arrow 25"/>
          <p:cNvSpPr/>
          <p:nvPr/>
        </p:nvSpPr>
        <p:spPr>
          <a:xfrm>
            <a:off x="3927600" y="2514600"/>
            <a:ext cx="415800" cy="6858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own Arrow 26"/>
          <p:cNvSpPr/>
          <p:nvPr/>
        </p:nvSpPr>
        <p:spPr>
          <a:xfrm>
            <a:off x="4114800" y="4495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34290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3657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24:58Z</dcterms:created>
  <dc:creator>Ausburn</dc:creator>
  <dc:description/>
  <dc:language>en-US</dc:language>
  <cp:lastModifiedBy>Ausburn</cp:lastModifiedBy>
  <dcterms:modified xsi:type="dcterms:W3CDTF">2010-01-26T21:58:28Z</dcterms:modified>
  <cp:revision>9</cp:revision>
  <dc:subject/>
  <dc:title>ACE: The Micro Ds in the Macro ADDIE Instructional Design Model</dc:title>
</cp:coreProperties>
</file>